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6B8-C4F1-40BA-8A72-719C001F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2FB-A803-4AB6-B483-6924E9BC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492-59C6-4B5C-B386-0F50750D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D73-BB15-46F6-854A-968B48B4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EAEB7-17AC-44D2-AFEC-B8E1C69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F78AF-AC68-4E7C-9808-31F4E13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9CD4-1ABD-4313-A2CA-A0B8CB14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3270A-F84A-494C-8AF8-87E075D6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284F-4518-4251-B544-563DE96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BCD29-1F64-422F-B2FC-A0FE214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65799-9641-4AA0-9538-86FAAAF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7A6-4C6D-402B-B150-96729D1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66F2E-CDC5-495C-B3D7-9CDAB42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46DF6-3E52-4495-8F0A-A68EAEDF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F214-C779-4DDF-BA18-843E94B2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EFA75-24FC-48B2-AC76-558ECE39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97AA7-9CD6-4567-BD8E-1E113430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90B-34A6-4CF6-9E11-E69C64D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415-C4C8-488A-A084-725552FB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031-9767-452C-9AAC-69F54F2E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11E-A196-4F2D-A14F-5FB115A1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47B-7A3B-40E6-9535-D96B4653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03-6ED9-4F5D-93C7-B9AFEB6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1C2-79E8-4AFB-9D22-A1C33AC1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487F-EE2F-4658-BA22-9468DBB729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1429-35BD-4569-ADF1-6C688F9162C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54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Monotype Corsiva"/>
              </a:rPr>
              <a:t>Projeto de Ensino desenvolvido na E.E. Senador Filinto Muller-Extensã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4978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ítulo do projet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Terra, Planeta Águ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rofessora coordenadora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nthya Maria Staut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laboraçã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Professor STE Claudemir e NTE Professora Carla Varel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Execuçã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Professora Maria José, Izabel e Rose Mazzar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mponentes curriculares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ências Naturais / Meio Ambiente; Matemática; Língua Portuguesa e Artes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ublico Alv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6º Ano D do Ensino Fundamental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urn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Vespertin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eríodo de realização: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 Setembro/ Novembro de 2009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lunos confeccionando filtro para fazerem a experiê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CIMG1565"/>
          <p:cNvPicPr/>
          <p:nvPr/>
        </p:nvPicPr>
        <p:blipFill>
          <a:blip r:embed="rId1"/>
          <a:stretch/>
        </p:blipFill>
        <p:spPr>
          <a:xfrm>
            <a:off x="1441440" y="1973160"/>
            <a:ext cx="291636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Picture 9" descr="CIMG1566"/>
          <p:cNvPicPr/>
          <p:nvPr/>
        </p:nvPicPr>
        <p:blipFill>
          <a:blip r:embed="rId2"/>
          <a:stretch/>
        </p:blipFill>
        <p:spPr>
          <a:xfrm>
            <a:off x="4430880" y="1973160"/>
            <a:ext cx="291132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8" name="Picture 10" descr="CIMG1574"/>
          <p:cNvPicPr/>
          <p:nvPr/>
        </p:nvPicPr>
        <p:blipFill>
          <a:blip r:embed="rId3"/>
          <a:stretch/>
        </p:blipFill>
        <p:spPr>
          <a:xfrm>
            <a:off x="1440000" y="4025880"/>
            <a:ext cx="2917800" cy="198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9" name="Text Box 12"/>
          <p:cNvSpPr/>
          <p:nvPr/>
        </p:nvSpPr>
        <p:spPr>
          <a:xfrm>
            <a:off x="6784920" y="13604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4" descr="CIMG1581"/>
          <p:cNvPicPr/>
          <p:nvPr/>
        </p:nvPicPr>
        <p:blipFill>
          <a:blip r:embed="rId4"/>
          <a:stretch/>
        </p:blipFill>
        <p:spPr>
          <a:xfrm>
            <a:off x="4427640" y="4005360"/>
            <a:ext cx="2952720" cy="201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Os alunos estão realizando a experiência,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filtrando a águ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0" descr="CIMG1585"/>
          <p:cNvPicPr/>
          <p:nvPr/>
        </p:nvPicPr>
        <p:blipFill>
          <a:blip r:embed="rId1"/>
          <a:stretch/>
        </p:blipFill>
        <p:spPr>
          <a:xfrm>
            <a:off x="4284720" y="1484280"/>
            <a:ext cx="360036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3" name="Picture 20" descr="CIMG1583"/>
          <p:cNvPicPr/>
          <p:nvPr/>
        </p:nvPicPr>
        <p:blipFill>
          <a:blip r:embed="rId2"/>
          <a:stretch/>
        </p:blipFill>
        <p:spPr>
          <a:xfrm>
            <a:off x="826920" y="3789360"/>
            <a:ext cx="345780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4" name="Picture 21" descr="CIMG1579"/>
          <p:cNvPicPr/>
          <p:nvPr/>
        </p:nvPicPr>
        <p:blipFill>
          <a:blip r:embed="rId3"/>
          <a:stretch/>
        </p:blipFill>
        <p:spPr>
          <a:xfrm>
            <a:off x="826920" y="1484280"/>
            <a:ext cx="338472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5" name="Picture 22" descr="CIMG1584"/>
          <p:cNvPicPr/>
          <p:nvPr/>
        </p:nvPicPr>
        <p:blipFill>
          <a:blip r:embed="rId4"/>
          <a:stretch/>
        </p:blipFill>
        <p:spPr>
          <a:xfrm>
            <a:off x="4284720" y="3789360"/>
            <a:ext cx="360036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lunos na STE fazendo pesquisa relacionada ao desenvolvimento do proje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CIMG1589"/>
          <p:cNvPicPr/>
          <p:nvPr/>
        </p:nvPicPr>
        <p:blipFill>
          <a:blip r:embed="rId1"/>
          <a:stretch/>
        </p:blipFill>
        <p:spPr>
          <a:xfrm>
            <a:off x="1258920" y="1557360"/>
            <a:ext cx="29145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Picture 10" descr="CIMG1602"/>
          <p:cNvPicPr/>
          <p:nvPr/>
        </p:nvPicPr>
        <p:blipFill>
          <a:blip r:embed="rId2"/>
          <a:stretch/>
        </p:blipFill>
        <p:spPr>
          <a:xfrm>
            <a:off x="4211640" y="1557360"/>
            <a:ext cx="30243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Picture 11" descr="CIMG1600"/>
          <p:cNvPicPr/>
          <p:nvPr/>
        </p:nvPicPr>
        <p:blipFill>
          <a:blip r:embed="rId3"/>
          <a:stretch/>
        </p:blipFill>
        <p:spPr>
          <a:xfrm>
            <a:off x="1258920" y="3962520"/>
            <a:ext cx="2914560" cy="1984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0" name="Picture 12" descr="CIMG1591"/>
          <p:cNvPicPr/>
          <p:nvPr/>
        </p:nvPicPr>
        <p:blipFill>
          <a:blip r:embed="rId4"/>
          <a:stretch/>
        </p:blipFill>
        <p:spPr>
          <a:xfrm>
            <a:off x="4213080" y="3962520"/>
            <a:ext cx="3022920" cy="196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1" name="Text Box 13"/>
          <p:cNvSpPr/>
          <p:nvPr/>
        </p:nvSpPr>
        <p:spPr>
          <a:xfrm>
            <a:off x="6516720" y="1557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692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 realização do projeto alcançou os objetivos propostos, bem como a participação dos alunos durante o desenvolvimento das atividades, evidenciando a importância de se trabalhar de forma interdisciplin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26:51Z</dcterms:created>
  <dc:creator>Microsoft</dc:creator>
  <dc:description/>
  <dc:language>en-US</dc:language>
  <cp:lastModifiedBy>Claudemir</cp:lastModifiedBy>
  <dcterms:modified xsi:type="dcterms:W3CDTF">2013-02-27T18:45:56Z</dcterms:modified>
  <cp:revision>9</cp:revision>
  <dc:subject/>
  <dc:title>Projeto de Ensino desenvolvido na E.E.Senador Filinto Muller-Extensão</dc:title>
</cp:coreProperties>
</file>